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212-660B-4BA8-BF31-6235D69F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B20-F312-4E6C-841C-80FC98A6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56F-BBDA-498C-9657-32B391F3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258-E40B-45DC-955C-A7FBC2DA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132-4EC8-49F8-A0C2-5588DD25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A7B-21E5-4F32-9B1F-99BDD19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7DC-EE30-45E0-B335-E1CDDBBD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E40-AC1B-446A-96AA-A82656D5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69D-F1DB-44C2-9759-E83552A0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F4B-F866-4D67-9E32-9E26875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EB2-819C-48DD-B12C-9E19A6F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C6D-5AD9-46A1-A228-90EF0AEC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5EAE-30B3-4F83-819F-03B26ADB64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0800000"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cc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r, We Would See Jesus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The Life of Christ 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0, Lesson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11:55 – 12:19; Mark 11:12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29-1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BA9-1A72-4887-8511-EBB46170406B}" type="slidenum">
              <a:t>1</a:t>
            </a:fld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Life of Chris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4572000"/>
            <a:ext cx="2362320" cy="5205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648320" y="4876920"/>
            <a:ext cx="1752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5B7-7D83-4C10-8F96-8238DB7E827B}" type="slidenum">
              <a:t>2</a:t>
            </a:fld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flicts With The Jews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hn 11:55–5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ief priests and the Pharisees had given orders to let them know if Jesus is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John 11:47-48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e is left alone, all men will believe on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mans will come and take away both our place and our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pl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John 11:5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t Him to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ish Passover was n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C55-764C-4D25-BA93-4BDCA91CA018}" type="slidenum">
              <a:t>3</a:t>
            </a:fld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esus Visits Bethany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hn 12:1-11; Matt. 26:6-13; Mark 14:1-1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ent to Bethany, the hometown of Lazarus and his sisters, Mary and Mart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six days before the Passover (Saturday eve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on, a former leper, had them for di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dinner, Mary anointed Jesus with very expensive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disciples obj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deed became a memorial to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4F3-E638-4A8B-8DD0-A3FCDD925BC2}" type="slidenum">
              <a:t>4</a:t>
            </a:fld>
          </a:p>
        </p:txBody>
      </p:sp>
    </p:spTree>
  </p:cSld>
  <p:transition spd="med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Triumphal Entr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11:1-11; Matt. 21:1-17; Luke 19:29-44; John 12:11-1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first day of the week, Jesus rode into Jerusalem on a donkey (Zech. 9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disciples got the donkey in Bethp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owd welcomed Him with “Hosanna” and the words of Psalm 118: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arisees and chief priests were very up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ed Jesus to stop the celeb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f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FDF-A2CE-45F5-8227-A577C2C8E9D1}" type="slidenum">
              <a:t>5</a:t>
            </a:fld>
          </a:p>
        </p:txBody>
      </p:sp>
    </p:spTree>
  </p:cSld>
  <p:transition spd="med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esus Weeps Over Jerusale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uke 19:41-4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Jesus saw the city, He w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the future of the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never saw 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enemies (the Romans) will surrou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e stone will be left upon ano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entered the temple, looked around, and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turned to Beth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EFD-B640-4B50-B43B-3EEFCAE627BD}" type="slidenum">
              <a:t>6</a:t>
            </a:fld>
          </a:p>
        </p:txBody>
      </p:sp>
    </p:spTree>
  </p:cSld>
  <p:transition spd="med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rren Fig Tree Cursed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11:12-14; Matt. 21:18-1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next day (Monday), Jesus and His disciples again went to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hungry, He came to a fig t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 had leaves but no fruit - bar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eclared it would never bear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 began to wi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A54-908D-4412-B463-CA62E5CB23CE}" type="slidenum">
              <a:t>7</a:t>
            </a:fld>
          </a:p>
        </p:txBody>
      </p:sp>
    </p:spTree>
  </p:cSld>
  <p:transition spd="med"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cond Cleansing of the Templ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11:15-18; Matt. 21:12-13; Luke 19:45-4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reaching Jerusalem, Jesus went to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merchants inside, 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 out the merchant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hrew the tables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allow people to carry vessels through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- He had cleansed the temple three years earl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14F-130A-4D4D-9945-8F7EEFFD50E6}" type="slidenum">
              <a:t>8</a:t>
            </a:fld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0:53:10Z</dcterms:created>
  <dc:creator>Frank D Vines</dc:creator>
  <dc:description/>
  <dc:language>en-US</dc:language>
  <cp:lastModifiedBy>Frank D Vines</cp:lastModifiedBy>
  <dcterms:modified xsi:type="dcterms:W3CDTF">2006-08-04T15:24:22Z</dcterms:modified>
  <cp:revision>14</cp:revision>
  <dc:subject/>
  <dc:title>Slide 1</dc:title>
</cp:coreProperties>
</file>